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1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158E-B587-477A-A1AC-5E89446596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ntal and Emotional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ntal and Emo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– feeling of sadness loneliness and despai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Histor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life stress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abu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– feeling of sadness loneliness and desp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life stres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ab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identify your source of 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ings into perspec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the positive th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someone you tru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identify your source of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ings into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the positive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someone you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ideal - your mental image of what you would like to b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concept – the current mental image you have of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ideal - your mental image of what you would like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concept – the current mental image you have of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ques people use to protect themselves from being hur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– 16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ques people use to protect themselves from being h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– 1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low’s Hierarchy of Needs – focusing on the positive aspects of human behavior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organized human need by priori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low’s Hierarchy of Needs – focusing on the positive aspects of human behavi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organized human need by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Mental and Emotional Disord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Mental and Emotional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disorder – mental and emotional disorders resulting from a physical caus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- brain tum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ury – blow  to the he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imbalance – drugs to destroy brain cel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disorder – mental and emotional disorders resulting from a physical caus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- brain tum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ury – blow  to the 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imbalance – drugs to destroy brai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ing Disorders – deep emotional problems related to self – image and self-este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psychiatric treat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among tee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ing Disorders – deep emotional problems related to self – image and self-este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psychiatric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among te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xiety disorder – a condition in which fear or anxiety prevents one from enjoying life and completing everyday task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bias most well know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women then m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xiety disorder – a condition in which fear or anxiety prevents one from enjoying life and completing everyday tas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bias most well k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women then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Healt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you have about yourself and your abilities to deal with problem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Heal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you have about yourself and your abilities to deal with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ciative disorder – a condition in which someone’s personality changes to the point that the person believes he or she is someone els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nes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ersonality disord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ciative disorder – a condition in which someone’s personality changes to the point that the person believes he or she is someone 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ersonality disor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Disorder – a condition in which one mood is experienced almost to the exclusion of other feel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Disorder – a condition in which one mood is experienced almost to the exclusion of other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soci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hondr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ing Help IF Yo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rolonged feeling of depression or hopeless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 that life is out of contro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concentrate or make decisio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getting along with oth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ing Help IF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rolonged feeling of depression or hope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 that life is out of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concentrate or make deci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getting along with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e fea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t difficulty sleep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 problems coping with a physical ill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stop destructive behavi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e f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t difficulty slee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 problems coping with a physical il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stop destructive behavi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reat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analysis – examines unresolved conflict from the pas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therapy – focuses on the persons behavior now rather then the underlying proble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analysis – examines unresolved conflict from the p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therapy – focuses on the persons behavior now rather then the underlying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- meetings of people with similar problem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herapy – the use of drugs to treat mental and emotional disord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 be dangerous and addictiv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- meetings of people with simila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herapy – the use of drugs to treat mental and emotional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 be dangerous and addic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Esteem – pride in and acceptance of yourself; feeling good about yourself and your abiliti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s at Birt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Esteem – pride in and acceptance of yourself; feeling good about yourself and your abi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s at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mage – the view a person has on his or her bod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elf talk – talking in a positive way to yourself about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disclosure – telling another person meaningful info about yoursel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mage – the view a person has on his or her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elf talk – talking in a positive way to yourself about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disclosure – telling another person meaningful info about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has th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m in a positive way (not negativ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ha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m in a positive way (not nega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eps to Improv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ink about what you are good at, and build on those abiliti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elect supportive and encouraging frie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ractice good health habi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eps to Improv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ink about what you are good at, and build on those 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elect supportive and encouraging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ractice good health ha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Exercise!!!!!!!!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Think posi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3 things that make you happy everyda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goals, be realisti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ware of perfectioni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Exercise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Think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3 things that make you happy every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goals, be reali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ware of perfect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difference in the world, help oth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Volunte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yourself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n !!!!!!!!!!!!!!!!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difference in the world, help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Volunt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yoursel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n !!!!!!!!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Esteem more than any other factors has a direct effect on all 5 aspects of your healt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Esteem more than any other factors has a direct effect on all 5 aspects of your heal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Examp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– strong affection or caring for someo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– feeling of joy and well being or contentme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– strong affection or caring for some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– feeling of joy and well being or conten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sm – feeling that life experiences will be positiv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– a way of expressing some negative emotions in a more positive wa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sm – feeling that life experiences will be posi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– a way of expressing some negative emotions in a more positive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 – feeling of dang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your fears –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talk – saying things to yourself to view the fear more realisticall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lanning – rearranging the environment to reduce your fea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 – feeling of dang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your fear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talk – saying things to yourself to view the fear more realis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lanning – rearranging the environment to reduce your f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r – strong feeling or irritati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anger –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emotions appropriately, so that they are posi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your feelings and the source of the ang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r – strong feeling or irritati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anger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emotions appropriately, so that they are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your feelings and the source of the an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lt – feeling that you have done something wrong or are responsible for something bad happening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lousy – feeling of wanting something that someone else has or of losing something you ha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lt – feeling that you have done something wrong or are responsible for something bad happe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lousy – feeling of wanting something that someone else has or of losing something you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feeling of isolation or alie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yness- being timid or bashfu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feeling of isolation or alie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yness- being timid or bash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8CC9-4405-4832-B679-DA09233E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8387-80EC-4CC6-8AF9-C764EB1C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1F61-4721-4B8A-9560-63F3AB3F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D59B-FCA5-4BE6-803D-819E0E2EC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EBC1-C9C8-410E-9E1D-6C0A0672B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2E72-0505-489C-BB05-84EC4FC0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1FAC-64C9-485D-87CD-F9472BAB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D74B-1BF4-4863-BBD1-E220611E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5704-97BA-4615-AD18-74EF31E3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D84B-3441-4338-AD36-637CC1EC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B916-3FC2-4F72-A3B4-10EE92D8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E7A5-C269-4A84-9B49-58F22362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9919-519A-4ECE-ABBA-82F47CA5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B5526-14D9-4C1F-82C4-EE0A33E5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FE46-9ECF-414C-A82A-310EF8E7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E724-7688-47C2-8516-D4D29BA2B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1634-E7A4-4793-ADB6-8B98BD684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0BE41-50B1-41F7-953E-8313F9DE3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7227A-545E-4FEB-8723-09F8E47C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8BC5F-CF60-45F3-8CA0-80D46433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85774-8F8C-4D3F-8BEB-D32469AD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E4D4D-7626-4EAB-AFE4-BA8C9A96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BB65-EE51-42F6-A9FD-C76AEAEC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8CB44-8B59-4776-8F21-0B3E55F1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AD00F-433A-4025-BF9C-8C87F9C3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04599-6C6B-44CF-B100-BD044621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5DB2B-3FF2-4D2D-8112-7BD03B91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458F6-44F4-41D3-9D2D-72E48F24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7CC2F-24F4-4CB0-AC56-D74D6FFC4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CF1BD-3394-40BC-AFAE-6304497ED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8405-9FB8-411A-A82F-9C90633F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DEF5-1480-4A09-AB5A-C2803F6F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7602-16AF-4B52-A7CF-1B5A2E12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68A1-6D76-4772-84D1-73CBC046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E7E6-54F0-4461-BDA8-D57FDDBC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B358-4CBC-4FE1-9894-B8945307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0D22-A133-4911-885B-A984989B7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AB0D-F68F-43C3-95E8-DCF3065C7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8D31-769E-482E-81F9-E9E58634F98D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447920" y="99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ental and Emotional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ression – feeling of sadness loneliness and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espair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amily Histor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jor life stressor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hysical illnes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ubstance abu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end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naging depress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y to identify your source of depress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ut things into perspecti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Focus on the positive thing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alk to someone you trus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lf ideal - your mental image of what you would like to b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lf concept – the current mental image you have of yourself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Defense Mechanisms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echniques people use to protect themselves from being hurt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age – 16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slow’s Hierarchy of Needs – focusing on the positive aspects of human behavior.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e organized human need by priori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Diagram 0"/>
          <p:cNvGrpSpPr/>
          <p:nvPr/>
        </p:nvGrpSpPr>
        <p:grpSpPr>
          <a:xfrm>
            <a:off x="2469240" y="1523520"/>
            <a:ext cx="4357440" cy="3918240"/>
            <a:chOff x="2469240" y="1523520"/>
            <a:chExt cx="4357440" cy="3918240"/>
          </a:xfrm>
        </p:grpSpPr>
        <p:sp>
          <p:nvSpPr>
            <p:cNvPr id="176" name="_s1028"/>
            <p:cNvSpPr/>
            <p:nvPr/>
          </p:nvSpPr>
          <p:spPr>
            <a:xfrm flipV="1">
              <a:off x="4212720" y="1523520"/>
              <a:ext cx="870480" cy="783360"/>
            </a:xfrm>
            <a:custGeom>
              <a:avLst/>
              <a:gdLst>
                <a:gd name="textAreaLeft" fmla="*/ 312120 w 870480"/>
                <a:gd name="textAreaRight" fmla="*/ 558360 w 870480"/>
                <a:gd name="textAreaTop" fmla="*/ 281160 h 783360"/>
                <a:gd name="textAreaBottom" fmla="*/ 502200 h 78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Self Actualization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ersonal growth and fulfillmen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_s1029"/>
            <p:cNvSpPr/>
            <p:nvPr/>
          </p:nvSpPr>
          <p:spPr>
            <a:xfrm flipV="1">
              <a:off x="3777120" y="2306160"/>
              <a:ext cx="1741320" cy="783720"/>
            </a:xfrm>
            <a:custGeom>
              <a:avLst/>
              <a:gdLst>
                <a:gd name="textAreaLeft" fmla="*/ 382680 w 1741320"/>
                <a:gd name="textAreaRight" fmla="*/ 1358640 w 1741320"/>
                <a:gd name="textAreaTop" fmla="*/ 172080 h 783720"/>
                <a:gd name="textAreaBottom" fmla="*/ 611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Esteem needs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chievement, responsibility, reputatio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_s1030"/>
            <p:cNvSpPr/>
            <p:nvPr/>
          </p:nvSpPr>
          <p:spPr>
            <a:xfrm flipV="1">
              <a:off x="3340080" y="3089880"/>
              <a:ext cx="2615760" cy="783720"/>
            </a:xfrm>
            <a:custGeom>
              <a:avLst/>
              <a:gdLst>
                <a:gd name="textAreaLeft" fmla="*/ 453960 w 2615760"/>
                <a:gd name="textAreaRight" fmla="*/ 2161800 w 2615760"/>
                <a:gd name="textAreaTop" fmla="*/ 136080 h 783720"/>
                <a:gd name="textAreaBottom" fmla="*/ 647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elongingness and love need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amily affection, relationship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_s1031"/>
            <p:cNvSpPr/>
            <p:nvPr/>
          </p:nvSpPr>
          <p:spPr>
            <a:xfrm flipV="1">
              <a:off x="2904480" y="3873600"/>
              <a:ext cx="3486600" cy="783720"/>
            </a:xfrm>
            <a:custGeom>
              <a:avLst/>
              <a:gdLst>
                <a:gd name="textAreaLeft" fmla="*/ 524520 w 3486600"/>
                <a:gd name="textAreaRight" fmla="*/ 2962080 w 3486600"/>
                <a:gd name="textAreaTop" fmla="*/ 117720 h 783720"/>
                <a:gd name="textAreaBottom" fmla="*/ 6660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afety Need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otection, security, law and ord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_s1032"/>
            <p:cNvSpPr/>
            <p:nvPr/>
          </p:nvSpPr>
          <p:spPr>
            <a:xfrm flipV="1">
              <a:off x="2469240" y="4657680"/>
              <a:ext cx="4357440" cy="783720"/>
            </a:xfrm>
            <a:custGeom>
              <a:avLst/>
              <a:gdLst>
                <a:gd name="textAreaLeft" fmla="*/ 595080 w 4357440"/>
                <a:gd name="textAreaRight" fmla="*/ 3762360 w 4357440"/>
                <a:gd name="textAreaTop" fmla="*/ 106920 h 783720"/>
                <a:gd name="textAreaBottom" fmla="*/ 6768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iological and physiological nee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asic life needs- air, food, shelter, slee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Types of Mental and Emotional Disorder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rganic disorder – mental and emotional disorders resulting from a physical cause.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llness- brain tum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ury – blow  to the 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mical imbalance – drugs to destroy brain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ating Disorders – deep emotional problems related to self – image and self-esteem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quired psychiatric trea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creased among tee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nxiety disorder – a condition in which fear or anxiety prevents one from enjoying life and completing everyday task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m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obias most well kn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women then 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99"/>
                </a:solidFill>
                <a:latin typeface="Tahoma"/>
              </a:rPr>
              <a:t>Mental Health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The feeling you have about yourself and your abilities to deal with problem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issociative disorder – a condition in which someone’s personality changes to the point that the person believes he or she is someone else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personality disor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ood Disorder – a condition in which one mood is experienced almost to the exclusion of other feeling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press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so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pochond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Seeking Help IF You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ave prolonged feeling of depression or hopelessn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eelings that life is out of contr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ability to concentrate or make decision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ifficulty getting along with oth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tense fea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rsistent difficulty sleep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Emotional problems coping with a physical illnes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ability to stop destructive behavio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Types of Treatment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sychoanalysis – examines unresolved conflict from the past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havior therapy – focuses on the persons behavior now rather then the underlying problem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ont.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roup Therapy- meetings of people with similar problem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emical Therapy – the use of drugs to treat mental and emotional disorde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(can be dangerous and addictive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66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2120" y="9140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lf –Esteem – pride in and acceptance of yourself; feeling good about yourself and your abilities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-198720">
              <a:spcBef>
                <a:spcPts val="10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gins at Birt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-702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ody Image – the view a person has on his or her bod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ositive self talk – talking in a positive way to yourself about yourself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lf – disclosure – telling another person meaningful info about yourself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Emotions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Norma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Everyone has them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Express them in a positive way (not negative)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0 Steps to Improve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f-Este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ink about what you are good at, and build on those abiliti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2. Select supportive and encouraging friend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3. Practice good health habi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-21132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4.  Exercise!!!!!!!!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Think positiv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rite down 3 things that make you happy everyda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et goals, be realistic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Beware of perfectionis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14688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Make a difference in the world, help other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*Volunteer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eward yourself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Have fun !!!!!!!!!!!!!!!!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-34956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lf – Esteem more than any other factors has a direct effect on all 5 aspects of your health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2640" y="213840"/>
            <a:ext cx="780084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Emotions Examples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81200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Love – strong affection or caring for someone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Happiness – feeling of joy and well being or contentment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ptimism – feeling that life experiences will be positive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umor – a way of expressing some negative emotions in a more positive way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7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Fear – feeling of danger</a:t>
            </a:r>
            <a:br>
              <a:rPr sz="4000"/>
            </a:b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anaging your fears –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lf talk – saying things to yourself to view the fear more realistically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nvironmental planning – rearranging the environment to reduce your fear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Anger – strong feeling or irritation.</a:t>
            </a: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naging anger –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annel emotions appropriately, so that they are positi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cognize your feelings and the source of the anger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uilt – feeling that you have done something wrong or are responsible for something bad happening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Jealousy – feeling of wanting something that someone else has or of losing something you ha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Loneliness – feeling of isolation or alienation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hyness- being timid or bashfu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19:33:29Z</dcterms:created>
  <dc:creator>workshop</dc:creator>
  <dc:description/>
  <dc:language>en-US</dc:language>
  <cp:lastModifiedBy>RomaK</cp:lastModifiedBy>
  <cp:lastPrinted>2008-06-08T23:00:35Z</cp:lastPrinted>
  <dcterms:modified xsi:type="dcterms:W3CDTF">2015-09-04T10:41:56Z</dcterms:modified>
  <cp:revision>20</cp:revision>
  <dc:subject/>
  <dc:title>Chapter 7</dc:title>
</cp:coreProperties>
</file>